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438-B8C6-499E-AC03-F965D70E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20C-CCF0-4E29-97D2-1CD80CDE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A60-F2F5-403F-A35E-E52AD419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1E8-029F-4CD1-B7DC-70C55D46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A63AB-973B-4618-B3FE-DA65678E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96E3D-B662-4DE6-97C5-0CCFB126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22C60-1210-443A-9F37-67B3EE6A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90814-72A2-46AC-AAA5-8DCAADEB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9AA13-1084-4F18-8D1C-CA9F65A6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5AAB9-2678-4EAE-A844-9094950E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BD21D-5C58-4F38-81A6-7A8F5E50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739-DBF9-4B7D-9592-CCDAF248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799B1-C74E-473D-89B1-2E5F3FD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80F7-3AA0-41D3-B5E2-CE668BC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88595-864D-43B9-99D9-9085EC51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E498F-2471-4B90-8587-EB513A90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4EA83-7669-4745-8565-4F4B11E3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EBC-7DDD-4068-9456-DCF3F76D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1EE-0F8C-4946-9FF8-A621C1CE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120-9B20-4F77-B01F-521F00A8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40C-7C1C-4080-BA8E-6F8EF922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656-8E71-45D0-B40F-F6895361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2D7-5E89-4B62-A618-FAD8EFD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D33-14F0-40E8-935A-F8D8DE7C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16F5-3BF5-4317-B1B8-E6AD32CF9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2A6-29E3-4925-BD68-ACA456983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00"/>
                </a:solidFill>
                <a:latin typeface="Snap ITC"/>
              </a:rPr>
              <a:t>How did Maori get to</a:t>
            </a: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0" lang="en-NZ" sz="4000" spc="-1" strike="noStrike">
                <a:solidFill>
                  <a:srgbClr val="ff3300"/>
                </a:solidFill>
                <a:latin typeface="Snap ITC"/>
              </a:rPr>
              <a:t>New zealand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0000"/>
                </a:solidFill>
                <a:latin typeface="Snap ITC"/>
              </a:rPr>
              <a:t>By JJ and Alzari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How many  people can  fit in a war cano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nap ITC"/>
              </a:rPr>
              <a:t>(war canoes) are large canoes manned by up to 80 paddlers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33134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This is a picture of canoes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8604360" cy="2565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475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Snap ITC"/>
              </a:rPr>
              <a:t>How long is a cano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A canoe is 130 ft long or 40 meters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3156120"/>
            <a:ext cx="72723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Arrival Of The Maori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Snap ITC"/>
              </a:rPr>
              <a:t>About 6000 years ago a group of people began to move eastwards from south-east Asia.They travelled in outrigger canoes with pigs dog rats chickens and some root and tree crops.They could carve  and make pottery and were good at fish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Key point Maori arrivals</a:t>
            </a: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Maori came to aotearoa from eastern polynes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Their voyages were deliberate and carefully plan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They were expert sail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They arrived in about ad 135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Snap ITC"/>
              </a:rPr>
              <a:t>They brought with them the kumara the kiore and the dog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Snap ITC"/>
              </a:rPr>
              <a:t>Hope You like Our power point</a:t>
            </a:r>
            <a:r>
              <a:rPr b="0" lang="en-NZ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903320"/>
            <a:ext cx="82803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02:54:14Z</dcterms:created>
  <dc:creator>5d25</dc:creator>
  <dc:description/>
  <dc:language>en-US</dc:language>
  <cp:lastModifiedBy>5d29</cp:lastModifiedBy>
  <dcterms:modified xsi:type="dcterms:W3CDTF">2013-06-14T02:48:40Z</dcterms:modified>
  <cp:revision>6</cp:revision>
  <dc:subject/>
  <dc:title>How did maori get to nz.</dc:title>
</cp:coreProperties>
</file>